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300800" cy="95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300800" cy="4827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undamentals of Rational Rose Instructor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1"/>
          </p:nvPr>
        </p:nvSpPr>
        <p:spPr>
          <a:xfrm>
            <a:off x="474840" y="8937360"/>
            <a:ext cx="3163680" cy="47772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lstStyle>
            <a:lvl1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Module 8 – Introduction to Round-Trip Enginee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25400" y="9213840"/>
            <a:ext cx="93960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8 - </a:t>
            </a:r>
            <a:fld id="{854A0FF9-6CCD-4D95-99BB-03527B04A69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2657160" y="874440"/>
            <a:ext cx="4233960" cy="317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Click to move the slide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49" name=""/>
          <p:cNvSpPr/>
          <p:nvPr/>
        </p:nvSpPr>
        <p:spPr>
          <a:xfrm>
            <a:off x="461880" y="479520"/>
            <a:ext cx="6404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640" rIns="107640" tIns="-53640" bIns="-53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2647800" y="4294080"/>
            <a:ext cx="4227840" cy="4214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3240" y="874800"/>
            <a:ext cx="1737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ZapfHumnst BT"/>
              </a:rPr>
              <a:t>Instructor Notes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8840" y="874800"/>
            <a:ext cx="0" cy="778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666880" y="873000"/>
            <a:ext cx="4235400" cy="3176640"/>
          </a:xfrm>
          <a:prstGeom prst="rect">
            <a:avLst/>
          </a:prstGeom>
          <a:ln w="0">
            <a:noFill/>
          </a:ln>
        </p:spPr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11360" y="1273320"/>
            <a:ext cx="492120" cy="5554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2747880" y="4367160"/>
            <a:ext cx="4229280" cy="4129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6600" y="1262160"/>
            <a:ext cx="1842840" cy="71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11916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11916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30 minu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11916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674800" y="874800"/>
            <a:ext cx="4235760" cy="3176640"/>
          </a:xfrm>
          <a:prstGeom prst="rect">
            <a:avLst/>
          </a:prstGeom>
          <a:ln w="0">
            <a:noFill/>
          </a:ln>
        </p:spPr>
      </p:sp>
      <p:sp>
        <p:nvSpPr>
          <p:cNvPr id="131" name=""/>
          <p:cNvSpPr/>
          <p:nvPr/>
        </p:nvSpPr>
        <p:spPr>
          <a:xfrm>
            <a:off x="579600" y="1143000"/>
            <a:ext cx="189684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240" rIns="66240" tIns="66240" bIns="66240" anchor="t">
            <a:noAutofit/>
          </a:bodyPr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9600" y="1143000"/>
            <a:ext cx="189684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240" rIns="66240" tIns="66240" bIns="66240" anchor="t">
            <a:noAutofit/>
          </a:bodyPr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2666880" y="874800"/>
            <a:ext cx="4235400" cy="31766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2747880" y="4367160"/>
            <a:ext cx="4229280" cy="4129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lnSpc>
                <a:spcPct val="85000"/>
              </a:lnSpc>
              <a:spcBef>
                <a:spcPts val="312"/>
              </a:spcBef>
              <a:buNone/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spcBef>
                <a:spcPts val="312"/>
              </a:spcBef>
              <a:buNone/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spcBef>
                <a:spcPts val="312"/>
              </a:spcBef>
              <a:buNone/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600" y="1143000"/>
            <a:ext cx="189684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240" rIns="66240" tIns="66240" bIns="66240" anchor="t">
            <a:noAutofit/>
          </a:bodyPr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1143000"/>
            <a:ext cx="189684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240" rIns="66240" tIns="66240" bIns="66240" anchor="t">
            <a:noAutofit/>
          </a:bodyPr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674800" y="874800"/>
            <a:ext cx="4235760" cy="3176640"/>
          </a:xfrm>
          <a:prstGeom prst="rect">
            <a:avLst/>
          </a:prstGeom>
          <a:ln w="0">
            <a:noFill/>
          </a:ln>
        </p:spPr>
      </p:sp>
      <p:sp>
        <p:nvSpPr>
          <p:cNvPr id="138" name=""/>
          <p:cNvSpPr/>
          <p:nvPr/>
        </p:nvSpPr>
        <p:spPr>
          <a:xfrm>
            <a:off x="579600" y="1143000"/>
            <a:ext cx="189684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240" rIns="66240" tIns="66240" bIns="66240" anchor="t">
            <a:noAutofit/>
          </a:bodyPr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9600" y="1143000"/>
            <a:ext cx="189684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240" rIns="66240" tIns="66240" bIns="66240" anchor="t">
            <a:noAutofit/>
          </a:bodyPr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674800" y="874800"/>
            <a:ext cx="4235760" cy="3176640"/>
          </a:xfrm>
          <a:prstGeom prst="rect">
            <a:avLst/>
          </a:prstGeom>
          <a:ln w="0">
            <a:noFill/>
          </a:ln>
        </p:spPr>
      </p:sp>
      <p:sp>
        <p:nvSpPr>
          <p:cNvPr id="141" name=""/>
          <p:cNvSpPr/>
          <p:nvPr/>
        </p:nvSpPr>
        <p:spPr>
          <a:xfrm>
            <a:off x="579600" y="1143000"/>
            <a:ext cx="189684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240" rIns="66240" tIns="66240" bIns="66240" anchor="t">
            <a:noAutofit/>
          </a:bodyPr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9600" y="1143000"/>
            <a:ext cx="189684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240" rIns="66240" tIns="66240" bIns="66240" anchor="t">
            <a:noAutofit/>
          </a:bodyPr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666880" y="874800"/>
            <a:ext cx="4232520" cy="3174840"/>
          </a:xfrm>
          <a:prstGeom prst="rect">
            <a:avLst/>
          </a:prstGeom>
          <a:ln w="0">
            <a:noFill/>
          </a:ln>
        </p:spPr>
      </p:sp>
      <p:sp>
        <p:nvSpPr>
          <p:cNvPr id="144" name=""/>
          <p:cNvSpPr/>
          <p:nvPr/>
        </p:nvSpPr>
        <p:spPr>
          <a:xfrm>
            <a:off x="579600" y="1143000"/>
            <a:ext cx="189684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880" rIns="65880" tIns="65880" bIns="65880" anchor="t">
            <a:noAutofit/>
          </a:bodyPr>
          <a:p>
            <a:pPr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" y="1143000"/>
            <a:ext cx="189684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880" rIns="65880" tIns="65880" bIns="65880" anchor="t">
            <a:noAutofit/>
          </a:bodyPr>
          <a:p>
            <a:pPr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600" y="1262160"/>
            <a:ext cx="1842840" cy="71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noAutofit/>
          </a:bodyPr>
          <a:p>
            <a:pPr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4280" y="1209600"/>
            <a:ext cx="17780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t">
            <a:noAutofit/>
          </a:bodyPr>
          <a:p>
            <a:pPr marL="171360" indent="-171360">
              <a:lnSpc>
                <a:spcPct val="87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Answers: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Slides 8-4, 8-6 and 8-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Slide 8-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657520" y="874800"/>
            <a:ext cx="4233960" cy="3174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2647800" y="4294080"/>
            <a:ext cx="4227840" cy="4214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Because round-trip engineering in Rose is different per implementation language, it is not in the scope of the course to teach this feature in detail. However, it is valuable to see a simple example in action to demonstrate the power of round-trip engineering in maintaining architectural integrit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Round-trip engineering is a powerful feature of Rational Rose that cannot be demonstrated in all its complexity. For further practice, we recommend that you refer to Rational Rose’s language-specific documentation and online tutori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4280" y="1209600"/>
            <a:ext cx="17780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t">
            <a:noAutofit/>
          </a:bodyPr>
          <a:p>
            <a:pPr>
              <a:lnSpc>
                <a:spcPct val="87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Recommendati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Because we can’t anticipate all lab and PC configurations, we highly recommend that you set up and run this demo before your scheduled clas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21960"/>
            <a:ext cx="89992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849024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1800" y="3686760"/>
            <a:ext cx="849024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21960"/>
            <a:ext cx="89992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41428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2040" y="1052280"/>
            <a:ext cx="41428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61800" y="3686760"/>
            <a:ext cx="41428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2040" y="3686760"/>
            <a:ext cx="41428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320" y="21960"/>
            <a:ext cx="89992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27334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2440" y="1052280"/>
            <a:ext cx="27334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2720" y="1052280"/>
            <a:ext cx="27334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61800" y="3686760"/>
            <a:ext cx="27334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2440" y="3686760"/>
            <a:ext cx="27334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2720" y="3686760"/>
            <a:ext cx="27334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21960"/>
            <a:ext cx="89992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61800" y="1052280"/>
            <a:ext cx="8490240" cy="50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21960"/>
            <a:ext cx="89992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849024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21960"/>
            <a:ext cx="89992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414288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2040" y="1052280"/>
            <a:ext cx="414288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21960"/>
            <a:ext cx="89992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92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21960"/>
            <a:ext cx="89992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41428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2040" y="1052280"/>
            <a:ext cx="414288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61800" y="3686760"/>
            <a:ext cx="41428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21960"/>
            <a:ext cx="89992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414288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2040" y="1052280"/>
            <a:ext cx="41428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2040" y="3686760"/>
            <a:ext cx="41428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21960"/>
            <a:ext cx="89992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41428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2040" y="1052280"/>
            <a:ext cx="41428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61800" y="3686760"/>
            <a:ext cx="849024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ottom%20logo" descr=""/>
          <p:cNvPicPr/>
          <p:nvPr/>
        </p:nvPicPr>
        <p:blipFill>
          <a:blip r:embed="rId2"/>
          <a:stretch/>
        </p:blipFill>
        <p:spPr>
          <a:xfrm>
            <a:off x="6477120" y="6342120"/>
            <a:ext cx="2590560" cy="515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1800" y="1052280"/>
            <a:ext cx="849024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682560" indent="-228600">
              <a:lnSpc>
                <a:spcPct val="80000"/>
              </a:lnSpc>
              <a:spcBef>
                <a:spcPts val="1199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025640" indent="-228600">
              <a:lnSpc>
                <a:spcPct val="80000"/>
              </a:lnSpc>
              <a:spcBef>
                <a:spcPts val="1199"/>
              </a:spcBef>
              <a:buClr>
                <a:srgbClr val="73e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368360" indent="-22860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1711440" indent="-22860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1711440" indent="-22860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1711440" indent="-22860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6320" y="6400800"/>
            <a:ext cx="4662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3e1ff"/>
                </a:solidFill>
                <a:latin typeface="Arial"/>
              </a:rPr>
              <a:t>Fundamentals of Rational Ros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3e1ff"/>
                </a:solidFill>
                <a:latin typeface="Arial"/>
              </a:rPr>
              <a:t>Copyright © 2000, 2002 Rational Software,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124080" y="63849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BEDC-31B5-4B62-B9A1-F27AB25B0B02}" type="slidenum">
              <a:rPr b="0" lang="en-US" sz="800" spc="-1" strike="noStrike">
                <a:solidFill>
                  <a:srgbClr val="73e1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5943600"/>
            <a:ext cx="13716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73e1ff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705720"/>
            <a:ext cx="6781680" cy="0"/>
          </a:xfrm>
          <a:prstGeom prst="line">
            <a:avLst/>
          </a:prstGeom>
          <a:ln w="9360">
            <a:solidFill>
              <a:srgbClr val="007e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98400"/>
            <a:ext cx="9144000" cy="0"/>
          </a:xfrm>
          <a:prstGeom prst="line">
            <a:avLst/>
          </a:prstGeom>
          <a:ln w="9360">
            <a:solidFill>
              <a:srgbClr val="73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ccff"/>
            </a:gs>
            <a:gs pos="50000">
              <a:srgbClr val="00516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endant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2971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9480" y="4191120"/>
            <a:ext cx="784872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Fundamentals of Rational Rose</a:t>
            </a:r>
            <a:br>
              <a:rPr sz="3600"/>
            </a:b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Module 8: Introduction to Round-Trip Engine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Module Summary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849024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Round-trip engineering is the ability to move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back and forth between model and code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Round-trip engineering helps maintain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rchitectural integrity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Round-trip engineering differs among implementation language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Module Objectives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849024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230040" indent="-230040">
              <a:lnSpc>
                <a:spcPct val="85000"/>
              </a:lnSpc>
              <a:spcBef>
                <a:spcPts val="10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Define round-trip engineering and discuss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its overall benefit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230040" indent="-230040">
              <a:lnSpc>
                <a:spcPct val="85000"/>
              </a:lnSpc>
              <a:spcBef>
                <a:spcPts val="10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Demonstrate round-trip engineering using a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simple Java example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23004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Where Are We?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849024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Round-trip engineering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20" y="1066680"/>
            <a:ext cx="352440" cy="381240"/>
          </a:xfrm>
          <a:prstGeom prst="star5">
            <a:avLst/>
          </a:prstGeom>
          <a:solidFill>
            <a:srgbClr val="969696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7640" rIns="107640" tIns="53640" bIns="53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What Is Round-Trip Engineering? 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849024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230040" indent="-230040">
              <a:lnSpc>
                <a:spcPct val="85000"/>
              </a:lnSpc>
              <a:spcBef>
                <a:spcPts val="10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Round-trip engineering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is the ability to move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back and forth between model and code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679320" indent="-220680">
              <a:lnSpc>
                <a:spcPct val="85000"/>
              </a:lnSpc>
              <a:spcBef>
                <a:spcPts val="876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Forward engineering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679320" indent="-220680">
              <a:lnSpc>
                <a:spcPct val="85000"/>
              </a:lnSpc>
              <a:spcBef>
                <a:spcPts val="876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Reverse engineering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23004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676160" y="3352680"/>
            <a:ext cx="5902200" cy="2361960"/>
            <a:chOff x="1676160" y="3352680"/>
            <a:chExt cx="5902200" cy="2361960"/>
          </a:xfrm>
        </p:grpSpPr>
        <p:grpSp>
          <p:nvGrpSpPr>
            <p:cNvPr id="63" name=""/>
            <p:cNvGrpSpPr/>
            <p:nvPr/>
          </p:nvGrpSpPr>
          <p:grpSpPr>
            <a:xfrm>
              <a:off x="3094560" y="4781160"/>
              <a:ext cx="1581480" cy="878400"/>
              <a:chOff x="3094560" y="4781160"/>
              <a:chExt cx="1581480" cy="878400"/>
            </a:xfrm>
          </p:grpSpPr>
          <p:sp>
            <p:nvSpPr>
              <p:cNvPr id="64" name=""/>
              <p:cNvSpPr/>
              <p:nvPr/>
            </p:nvSpPr>
            <p:spPr>
              <a:xfrm>
                <a:off x="3097080" y="5346000"/>
                <a:ext cx="1577520" cy="313560"/>
              </a:xfrm>
              <a:prstGeom prst="ellipse">
                <a:avLst/>
              </a:prstGeom>
              <a:solidFill>
                <a:srgbClr val="66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6000" bIns="360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109320" y="4906800"/>
                <a:ext cx="1553040" cy="60372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6000" bIns="360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097080" y="4781160"/>
                <a:ext cx="1577520" cy="313200"/>
              </a:xfrm>
              <a:prstGeom prst="ellipse">
                <a:avLst/>
              </a:prstGeom>
              <a:solidFill>
                <a:srgbClr val="66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6000" bIns="360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094560" y="4939920"/>
                <a:ext cx="1080" cy="56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36000" bIns="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674600" y="4936680"/>
                <a:ext cx="1440" cy="56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36000" bIns="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097080" y="5247720"/>
                <a:ext cx="1554480" cy="3106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6000" bIns="36000" anchor="t">
                <a:spAutoFit/>
              </a:bodyPr>
              <a:p>
                <a:pPr algn="ctr">
                  <a:lnSpc>
                    <a:spcPct val="87000"/>
                  </a:lnSpc>
                  <a:tabLst>
                    <a:tab algn="l" pos="0"/>
                    <a:tab algn="l" pos="861840"/>
                    <a:tab algn="l" pos="1724040"/>
                    <a:tab algn="l" pos="2585880"/>
                    <a:tab algn="l" pos="3448080"/>
                    <a:tab algn="l" pos="4309920"/>
                    <a:tab algn="l" pos="5172120"/>
                    <a:tab algn="l" pos="6033960"/>
                    <a:tab algn="l" pos="6896160"/>
                    <a:tab algn="l" pos="7758000"/>
                    <a:tab algn="l" pos="8620200"/>
                    <a:tab algn="l" pos="9482040"/>
                    <a:tab algn="l" pos="10344240"/>
                  </a:tabLst>
                </a:pPr>
                <a:r>
                  <a:rPr b="1" lang="en-US" sz="1800" spc="-1" strike="noStrike">
                    <a:solidFill>
                      <a:srgbClr val="a50021"/>
                    </a:solidFill>
                    <a:latin typeface="Arial"/>
                  </a:rPr>
                  <a:t>Source Cod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3085560" y="3352680"/>
              <a:ext cx="1583640" cy="878040"/>
              <a:chOff x="3085560" y="3352680"/>
              <a:chExt cx="1583640" cy="878040"/>
            </a:xfrm>
          </p:grpSpPr>
          <p:sp>
            <p:nvSpPr>
              <p:cNvPr id="71" name=""/>
              <p:cNvSpPr/>
              <p:nvPr/>
            </p:nvSpPr>
            <p:spPr>
              <a:xfrm>
                <a:off x="3088080" y="3917520"/>
                <a:ext cx="1579680" cy="313200"/>
              </a:xfrm>
              <a:prstGeom prst="ellipse">
                <a:avLst/>
              </a:prstGeom>
              <a:solidFill>
                <a:srgbClr val="b2b2b2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6000" bIns="360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100680" y="3478320"/>
                <a:ext cx="1554840" cy="6037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6000" bIns="360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088080" y="3352680"/>
                <a:ext cx="1579680" cy="313200"/>
              </a:xfrm>
              <a:prstGeom prst="ellipse">
                <a:avLst/>
              </a:prstGeom>
              <a:solidFill>
                <a:srgbClr val="b2b2b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6000" bIns="360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085560" y="3511440"/>
                <a:ext cx="1440" cy="56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36000" bIns="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668120" y="3507840"/>
                <a:ext cx="1080" cy="56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36000" bIns="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08920" y="3816000"/>
                <a:ext cx="80604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6000" bIns="36000" anchor="t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861840"/>
                    <a:tab algn="l" pos="1724040"/>
                    <a:tab algn="l" pos="2585880"/>
                    <a:tab algn="l" pos="3448080"/>
                    <a:tab algn="l" pos="4309920"/>
                    <a:tab algn="l" pos="5172120"/>
                    <a:tab algn="l" pos="6033960"/>
                    <a:tab algn="l" pos="6896160"/>
                    <a:tab algn="l" pos="7758000"/>
                    <a:tab algn="l" pos="8620200"/>
                    <a:tab algn="l" pos="9482040"/>
                    <a:tab algn="l" pos="10344240"/>
                  </a:tabLst>
                </a:pPr>
                <a:r>
                  <a:rPr b="1" lang="en-US" sz="1800" spc="-1" strike="noStrike">
                    <a:solidFill>
                      <a:srgbClr val="a50021"/>
                    </a:solidFill>
                    <a:latin typeface="Arial"/>
                  </a:rPr>
                  <a:t>Mode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5238000" y="3626640"/>
              <a:ext cx="792720" cy="2088000"/>
            </a:xfrm>
            <a:custGeom>
              <a:avLst/>
              <a:gdLst>
                <a:gd name="textAreaLeft" fmla="*/ 106200 w 792720"/>
                <a:gd name="textAreaRight" fmla="*/ 686520 w 792720"/>
                <a:gd name="textAreaTop" fmla="*/ 365400 h 2088000"/>
                <a:gd name="textAreaBottom" fmla="*/ 1513800 h 20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ffff"/>
            </a:solidFill>
            <a:ln w="50760">
              <a:solidFill>
                <a:srgbClr val="00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26560" y="4396680"/>
              <a:ext cx="13518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d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ener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1675800" y="3461400"/>
              <a:ext cx="790920" cy="2088000"/>
            </a:xfrm>
            <a:custGeom>
              <a:avLst/>
              <a:gdLst>
                <a:gd name="textAreaLeft" fmla="*/ 105840 w 790920"/>
                <a:gd name="textAreaRight" fmla="*/ 685080 w 790920"/>
                <a:gd name="textAreaTop" fmla="*/ 365400 h 2088000"/>
                <a:gd name="textAreaBottom" fmla="*/ 1513800 h 20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ffff"/>
            </a:solidFill>
            <a:ln w="50760">
              <a:solidFill>
                <a:srgbClr val="00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What Is Round-Trip Engineering?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849024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230040" indent="-230040">
              <a:lnSpc>
                <a:spcPct val="85000"/>
              </a:lnSpc>
              <a:spcBef>
                <a:spcPts val="10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Round-trip engineering helps maintain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architectural integrity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679320" indent="-220680">
              <a:lnSpc>
                <a:spcPct val="87000"/>
              </a:lnSpc>
              <a:spcBef>
                <a:spcPts val="1049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Detect and assess architectural change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679320" indent="-220680">
              <a:lnSpc>
                <a:spcPct val="87000"/>
              </a:lnSpc>
              <a:spcBef>
                <a:spcPts val="1049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Communicate accepted architectural change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679320" indent="-220680">
              <a:lnSpc>
                <a:spcPct val="87000"/>
              </a:lnSpc>
              <a:spcBef>
                <a:spcPts val="1049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Synchronize your model and source code during every iteration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23004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Forward Engineering 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849024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230040" indent="-230040">
              <a:lnSpc>
                <a:spcPct val="85000"/>
              </a:lnSpc>
              <a:spcBef>
                <a:spcPts val="10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rward Engineering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is the ability to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transform a model into code through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mapping to a specific implementation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language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23004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23004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23004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936880" y="3048120"/>
            <a:ext cx="4532040" cy="2513880"/>
            <a:chOff x="2936880" y="3048120"/>
            <a:chExt cx="4532040" cy="2513880"/>
          </a:xfrm>
        </p:grpSpPr>
        <p:grpSp>
          <p:nvGrpSpPr>
            <p:cNvPr id="85" name=""/>
            <p:cNvGrpSpPr/>
            <p:nvPr/>
          </p:nvGrpSpPr>
          <p:grpSpPr>
            <a:xfrm>
              <a:off x="2945520" y="4569120"/>
              <a:ext cx="1601640" cy="934920"/>
              <a:chOff x="2945520" y="4569120"/>
              <a:chExt cx="1601640" cy="934920"/>
            </a:xfrm>
          </p:grpSpPr>
          <p:sp>
            <p:nvSpPr>
              <p:cNvPr id="86" name=""/>
              <p:cNvSpPr/>
              <p:nvPr/>
            </p:nvSpPr>
            <p:spPr>
              <a:xfrm>
                <a:off x="2948040" y="5170320"/>
                <a:ext cx="1597320" cy="333720"/>
              </a:xfrm>
              <a:prstGeom prst="ellipse">
                <a:avLst/>
              </a:prstGeom>
              <a:solidFill>
                <a:srgbClr val="66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6000" bIns="360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960640" y="4703040"/>
                <a:ext cx="1572840" cy="642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6000" bIns="360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948040" y="4569120"/>
                <a:ext cx="1597320" cy="333360"/>
              </a:xfrm>
              <a:prstGeom prst="ellipse">
                <a:avLst/>
              </a:prstGeom>
              <a:solidFill>
                <a:srgbClr val="66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6000" bIns="360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945520" y="4738320"/>
                <a:ext cx="1080" cy="603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36000" bIns="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545720" y="4734720"/>
                <a:ext cx="1440" cy="603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36000" bIns="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958840" y="5065920"/>
                <a:ext cx="1554480" cy="3106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6000" bIns="36000" anchor="t">
                <a:spAutoFit/>
              </a:bodyPr>
              <a:p>
                <a:pPr algn="ctr">
                  <a:lnSpc>
                    <a:spcPct val="87000"/>
                  </a:lnSpc>
                  <a:tabLst>
                    <a:tab algn="l" pos="0"/>
                    <a:tab algn="l" pos="861840"/>
                    <a:tab algn="l" pos="1724040"/>
                    <a:tab algn="l" pos="2585880"/>
                    <a:tab algn="l" pos="3448080"/>
                    <a:tab algn="l" pos="4309920"/>
                    <a:tab algn="l" pos="5172120"/>
                    <a:tab algn="l" pos="6033960"/>
                    <a:tab algn="l" pos="6896160"/>
                    <a:tab algn="l" pos="7758000"/>
                    <a:tab algn="l" pos="8620200"/>
                    <a:tab algn="l" pos="9482040"/>
                    <a:tab algn="l" pos="10344240"/>
                  </a:tabLst>
                </a:pPr>
                <a:r>
                  <a:rPr b="1" lang="en-US" sz="1800" spc="-1" strike="noStrike">
                    <a:solidFill>
                      <a:srgbClr val="a50021"/>
                    </a:solidFill>
                    <a:latin typeface="Arial"/>
                  </a:rPr>
                  <a:t>Source Cod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2936880" y="3048120"/>
              <a:ext cx="1603800" cy="934920"/>
              <a:chOff x="2936880" y="3048120"/>
              <a:chExt cx="1603800" cy="934920"/>
            </a:xfrm>
          </p:grpSpPr>
          <p:sp>
            <p:nvSpPr>
              <p:cNvPr id="93" name=""/>
              <p:cNvSpPr/>
              <p:nvPr/>
            </p:nvSpPr>
            <p:spPr>
              <a:xfrm>
                <a:off x="2939400" y="3649680"/>
                <a:ext cx="1599840" cy="333360"/>
              </a:xfrm>
              <a:prstGeom prst="ellipse">
                <a:avLst/>
              </a:prstGeom>
              <a:solidFill>
                <a:srgbClr val="b2b2b2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6000" bIns="360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952000" y="3182040"/>
                <a:ext cx="1574640" cy="6429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6000" bIns="360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939400" y="3048120"/>
                <a:ext cx="1599840" cy="333360"/>
              </a:xfrm>
              <a:prstGeom prst="ellipse">
                <a:avLst/>
              </a:prstGeom>
              <a:solidFill>
                <a:srgbClr val="b2b2b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6000" bIns="360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936880" y="3217320"/>
                <a:ext cx="1440" cy="604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36000" bIns="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539600" y="3213360"/>
                <a:ext cx="1080" cy="604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36000" bIns="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365640" y="3541320"/>
                <a:ext cx="80604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6000" bIns="36000" anchor="t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861840"/>
                    <a:tab algn="l" pos="1724040"/>
                    <a:tab algn="l" pos="2585880"/>
                    <a:tab algn="l" pos="3448080"/>
                    <a:tab algn="l" pos="4309920"/>
                    <a:tab algn="l" pos="5172120"/>
                    <a:tab algn="l" pos="6033960"/>
                    <a:tab algn="l" pos="6896160"/>
                    <a:tab algn="l" pos="7758000"/>
                    <a:tab algn="l" pos="8620200"/>
                    <a:tab algn="l" pos="9482040"/>
                    <a:tab algn="l" pos="10344240"/>
                  </a:tabLst>
                </a:pPr>
                <a:r>
                  <a:rPr b="1" lang="en-US" sz="1800" spc="-1" strike="noStrike">
                    <a:solidFill>
                      <a:srgbClr val="a50021"/>
                    </a:solidFill>
                    <a:latin typeface="Arial"/>
                  </a:rPr>
                  <a:t>Mode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5116320" y="3339720"/>
              <a:ext cx="802800" cy="2222280"/>
            </a:xfrm>
            <a:custGeom>
              <a:avLst/>
              <a:gdLst>
                <a:gd name="textAreaLeft" fmla="*/ 107280 w 802800"/>
                <a:gd name="textAreaRight" fmla="*/ 695520 w 802800"/>
                <a:gd name="textAreaTop" fmla="*/ 388800 h 2222280"/>
                <a:gd name="textAreaBottom" fmla="*/ 1611360 h 22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ffff"/>
            </a:solidFill>
            <a:ln w="50760">
              <a:solidFill>
                <a:srgbClr val="00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117120" y="4159080"/>
              <a:ext cx="13518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d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ener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Reverse Engineering 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849024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230040" indent="-230040">
              <a:lnSpc>
                <a:spcPct val="85000"/>
              </a:lnSpc>
              <a:spcBef>
                <a:spcPts val="10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Reverse engineering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is the ability to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transform code into a model through a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mapping from a specific implementation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language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23004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23004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173400" y="2971800"/>
            <a:ext cx="3303360" cy="2455560"/>
            <a:chOff x="3173400" y="2971800"/>
            <a:chExt cx="3303360" cy="2455560"/>
          </a:xfrm>
        </p:grpSpPr>
        <p:sp>
          <p:nvSpPr>
            <p:cNvPr id="104" name=""/>
            <p:cNvSpPr/>
            <p:nvPr/>
          </p:nvSpPr>
          <p:spPr>
            <a:xfrm>
              <a:off x="4697640" y="5093640"/>
              <a:ext cx="1779120" cy="333720"/>
            </a:xfrm>
            <a:prstGeom prst="ellipse">
              <a:avLst/>
            </a:prstGeom>
            <a:solidFill>
              <a:srgbClr val="66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11320" y="4626360"/>
              <a:ext cx="1749960" cy="64296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97640" y="4492080"/>
              <a:ext cx="1779120" cy="333720"/>
            </a:xfrm>
            <a:prstGeom prst="ellipse">
              <a:avLst/>
            </a:prstGeom>
            <a:solidFill>
              <a:srgbClr val="66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95840" y="4660920"/>
              <a:ext cx="0" cy="60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76760" y="4657320"/>
              <a:ext cx="0" cy="60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97720" y="4988880"/>
              <a:ext cx="1554480" cy="3106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t">
              <a:sp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Arial"/>
                </a:rPr>
                <a:t>Source Cod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690080" y="3573360"/>
              <a:ext cx="1776960" cy="33300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03760" y="3105720"/>
              <a:ext cx="1749600" cy="6429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690080" y="2971800"/>
              <a:ext cx="1776960" cy="33300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686120" y="3140280"/>
              <a:ext cx="1440" cy="60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467040" y="3136320"/>
              <a:ext cx="2160" cy="60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63120" y="3464280"/>
              <a:ext cx="8060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Arial"/>
                </a:rPr>
                <a:t>Mode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3173400" y="2999520"/>
              <a:ext cx="890640" cy="2222280"/>
            </a:xfrm>
            <a:custGeom>
              <a:avLst/>
              <a:gdLst>
                <a:gd name="textAreaLeft" fmla="*/ 119160 w 890640"/>
                <a:gd name="textAreaRight" fmla="*/ 771480 w 890640"/>
                <a:gd name="textAreaTop" fmla="*/ 388440 h 2222280"/>
                <a:gd name="textAreaBottom" fmla="*/ 1611000 h 22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ffff"/>
            </a:solidFill>
            <a:ln w="50760">
              <a:solidFill>
                <a:srgbClr val="00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Review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849024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609480" indent="-609480">
              <a:lnSpc>
                <a:spcPct val="85000"/>
              </a:lnSpc>
              <a:spcBef>
                <a:spcPts val="1001"/>
              </a:spcBef>
              <a:buClr>
                <a:srgbClr val="ff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What is round-trip engineering?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1001"/>
              </a:spcBef>
              <a:buClr>
                <a:srgbClr val="ff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What is its value?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19" name="j0215317" descr=""/>
          <p:cNvPicPr/>
          <p:nvPr/>
        </p:nvPicPr>
        <p:blipFill>
          <a:blip r:embed="rId1"/>
          <a:stretch/>
        </p:blipFill>
        <p:spPr>
          <a:xfrm>
            <a:off x="6556320" y="3124080"/>
            <a:ext cx="23227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Lab 8-1: Round-Trip Engineering Demo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849024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Go to your Student Workbook to forward and reverse engineers a simple Java applet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638680" y="3733920"/>
          <a:ext cx="350532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3733920"/>
                    <a:ext cx="350532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2T19:55:58Z</dcterms:created>
  <dc:creator>Denise Leveron</dc:creator>
  <dc:description>Revised Power Point master slide using the "standard" Rational Software logo</dc:description>
  <dc:language>en-US</dc:language>
  <cp:lastModifiedBy>dleveron</cp:lastModifiedBy>
  <cp:lastPrinted>2000-11-13T23:51:35Z</cp:lastPrinted>
  <dcterms:modified xsi:type="dcterms:W3CDTF">2001-12-17T19:17:28Z</dcterms:modified>
  <cp:revision>83</cp:revision>
  <dc:subject>RU_SlideStandard</dc:subject>
  <dc:title>PowerPoint Presentation</dc:title>
</cp:coreProperties>
</file>