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00800" cy="95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300800" cy="4827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ndamentals of Rational Rose Instructo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1"/>
          </p:nvPr>
        </p:nvSpPr>
        <p:spPr>
          <a:xfrm>
            <a:off x="474840" y="8937360"/>
            <a:ext cx="3163680" cy="47772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dule 4 – The Use-Cas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25400" y="9213840"/>
            <a:ext cx="9396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 - </a:t>
            </a:r>
            <a:fld id="{E510F1A3-4BDA-439C-9E7A-31B48D4218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2657160" y="874440"/>
            <a:ext cx="4233960" cy="317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9" name=""/>
          <p:cNvSpPr/>
          <p:nvPr/>
        </p:nvSpPr>
        <p:spPr>
          <a:xfrm>
            <a:off x="461880" y="479520"/>
            <a:ext cx="640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640" rIns="107640" tIns="-53640" bIns="-53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2647800" y="4294080"/>
            <a:ext cx="4227840" cy="4214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3240" y="874800"/>
            <a:ext cx="1737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ZapfHumnst BT"/>
              </a:rPr>
              <a:t>Instructor Notes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8840" y="874800"/>
            <a:ext cx="0" cy="778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655720" y="876240"/>
            <a:ext cx="4232520" cy="3175200"/>
          </a:xfrm>
          <a:prstGeom prst="rect">
            <a:avLst/>
          </a:prstGeom>
          <a:ln w="0">
            <a:noFill/>
          </a:ln>
        </p:spPr>
      </p:sp>
      <p:sp>
        <p:nvSpPr>
          <p:cNvPr id="233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Represent a major piece of functionality that is complete from beginning to e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re described textually in a document called a flow of ev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In an iterative process, the software architect identifies the use cases used in the current iter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" y="1143000"/>
            <a:ext cx="202716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Note that it is not in the scope of this course to teach students </a:t>
            </a:r>
            <a:r>
              <a:rPr b="0" i="1" lang="en-US" sz="1000" spc="-1" strike="noStrike">
                <a:solidFill>
                  <a:srgbClr val="ffffff"/>
                </a:solidFill>
                <a:latin typeface="ZapfHumnst BT"/>
              </a:rPr>
              <a:t>how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to find use cas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Use cases are identifie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and briefly outlined during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the early inception phas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of the Requirements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Workflow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Those architecturally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significant to the system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are described in detail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during the elaboration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phas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Remaining use cases are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described during the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construction phas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655720" y="876240"/>
            <a:ext cx="4232520" cy="3175200"/>
          </a:xfrm>
          <a:prstGeom prst="rect">
            <a:avLst/>
          </a:prstGeom>
          <a:ln w="0">
            <a:noFill/>
          </a:ln>
        </p:spPr>
      </p:sp>
      <p:sp>
        <p:nvSpPr>
          <p:cNvPr id="241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or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re someone or something outside the system that interacts with the system, either by giving or receiving information or both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Can typically be found in the problem statement or from conversations with customers and domain exper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43000"/>
            <a:ext cx="202716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It is not in the scope of the course to teach students </a:t>
            </a:r>
            <a:r>
              <a:rPr b="0" i="1" lang="en-US" sz="1000" spc="-1" strike="noStrike">
                <a:solidFill>
                  <a:srgbClr val="ffffff"/>
                </a:solidFill>
                <a:latin typeface="ZapfHumnst BT"/>
              </a:rPr>
              <a:t>how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to identify “good” actor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Actors are identified and briefly outlined during the early inception phase of the Requirements Workflow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655720" y="876240"/>
            <a:ext cx="4232520" cy="3175200"/>
          </a:xfrm>
          <a:prstGeom prst="rect">
            <a:avLst/>
          </a:prstGeom>
          <a:ln w="0">
            <a:noFill/>
          </a:ln>
        </p:spPr>
      </p:sp>
      <p:sp>
        <p:nvSpPr>
          <p:cNvPr id="249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ociation Relationship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May exist between an actor and a use case and between use cases. It can also exist between classes and interfa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re the most general relationship and indicate communication on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Is often referred to as a “communicate” relationship since it refers to communication between actor and use ca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Can be navigable in one or both directions. The navigation direction represents </a:t>
            </a:r>
            <a:r>
              <a:rPr b="0" i="1" lang="en-US" sz="1000" spc="-1" strike="noStrike">
                <a:solidFill>
                  <a:srgbClr val="000000"/>
                </a:solidFill>
                <a:latin typeface="ZapfHumnst BT"/>
              </a:rPr>
              <a:t>who </a:t>
            </a: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is initiating the communicat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n association with an arrowhead denotes communication in one direction and is called a unidirectional association. The end with the arrow indicates who or what is receiving the communicat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n association without an arrowhead denotes communication in both directions and is called a bi-directional associ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9600" y="1143000"/>
            <a:ext cx="202716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We are not going to discuss stereotypes at this point. We are simply showing the basic UML notation for relationships in a use-case diagram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655720" y="874800"/>
            <a:ext cx="4232520" cy="3174840"/>
          </a:xfrm>
          <a:prstGeom prst="rect">
            <a:avLst/>
          </a:prstGeom>
          <a:ln w="0">
            <a:noFill/>
          </a:ln>
        </p:spPr>
      </p:sp>
      <p:sp>
        <p:nvSpPr>
          <p:cNvPr id="256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4280" y="1209600"/>
            <a:ext cx="1778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 marL="171360" indent="-171360">
              <a:lnSpc>
                <a:spcPct val="87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nswers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Slides 4-4 and 4-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Slide 4-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Slides 4-10 through 4-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Slide 4-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657520" y="874800"/>
            <a:ext cx="4233960" cy="3174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We will now look at the use case’s flow of events and other project artifacts that may be attached to the use-case mod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655720" y="876240"/>
            <a:ext cx="4232520" cy="3175200"/>
          </a:xfrm>
          <a:prstGeom prst="rect">
            <a:avLst/>
          </a:prstGeom>
          <a:ln w="0">
            <a:noFill/>
          </a:ln>
        </p:spPr>
      </p:sp>
      <p:sp>
        <p:nvSpPr>
          <p:cNvPr id="263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ZapfHumnst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66960" y="4375080"/>
            <a:ext cx="422748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Autofit/>
          </a:bodyPr>
          <a:p>
            <a:pPr marL="119160" indent="-119160">
              <a:lnSpc>
                <a:spcPct val="87000"/>
              </a:lnSpc>
              <a:spcBef>
                <a:spcPts val="55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low of Event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ZapfHumnst BT"/>
              </a:rPr>
              <a:t>Is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understood by the customer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Describes how and when the use case starts and ends, when the use case interacts with the actors, and the information exchanged between an actor and the use case.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Does </a:t>
            </a:r>
            <a:r>
              <a:rPr b="1" lang="en-US" sz="1000" spc="-1" strike="noStrike">
                <a:solidFill>
                  <a:srgbClr val="ffffff"/>
                </a:solidFill>
                <a:latin typeface="ZapfHumnst BT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 describe user interface detail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We are not teaching students how to read a flow of events to determine use cases. We are merely introducing the term since they will be attaching these documents as part of the use-case model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We will also discuss its visual representation, the activity diagram, in subsequent slid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655720" y="874800"/>
            <a:ext cx="4232520" cy="3174840"/>
          </a:xfrm>
          <a:prstGeom prst="rect">
            <a:avLst/>
          </a:prstGeom>
          <a:ln w="0">
            <a:noFill/>
          </a:ln>
        </p:spPr>
      </p:sp>
      <p:sp>
        <p:nvSpPr>
          <p:cNvPr id="270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ZapfHumnst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66960" y="4375080"/>
            <a:ext cx="422748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Autofit/>
          </a:bodyPr>
          <a:p>
            <a:pPr marL="119160" indent="-119160">
              <a:lnSpc>
                <a:spcPct val="87000"/>
              </a:lnSpc>
              <a:spcBef>
                <a:spcPts val="55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ZapfHumnst BT"/>
              </a:rPr>
              <a:t>Can be both input and output artifacts depending on the activit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ZapfHumnst BT"/>
              </a:rPr>
              <a:t>Are important to the use-case model and should be attached to the model in Rose. These documents may include the glossary, vision, stakeholder requests, business use-case model, and so on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ZapfHumnst BT"/>
              </a:rPr>
              <a:t>Can be accessed directly from Rose once they’re attach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19160" indent="-11916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9120" y="1295280"/>
            <a:ext cx="1843200" cy="71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Make sure students understand that artifacts may include existing models, like the business use-case model or business object model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655720" y="876240"/>
            <a:ext cx="4232520" cy="3175200"/>
          </a:xfrm>
          <a:prstGeom prst="rect">
            <a:avLst/>
          </a:prstGeom>
          <a:ln w="0">
            <a:noFill/>
          </a:ln>
        </p:spPr>
      </p:sp>
      <p:sp>
        <p:nvSpPr>
          <p:cNvPr id="280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We will be working in a modified Rational Unified Process framewor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For this lab, we give only high-level instructions. Guide students as necessar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657520" y="874800"/>
            <a:ext cx="4233960" cy="3174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We will now look at the final piece of the use-case model, the activity diagram and its elem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657520" y="874800"/>
            <a:ext cx="4233960" cy="31748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2647800" y="4294080"/>
            <a:ext cx="4227840" cy="4214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The workflow of a use case describes that which needs to be done by the system to provide the value the served actor is looking f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It consists of a sequence of activities that, together, produce something for the act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The workflow often consists of a basic flow and one or several alternative flow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ctivity diagrams can also be used in business modeling and to model the workings of an operation, an object, or anything that involves modeling the sequential steps in a computational proces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ctivity diagrams represent the dynamics of the syst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ctivity diagrams are not required. Some prefer its textual counterpart, the flow of events. It’s up to you whether you create them to illustrate the workflow of a use ca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Our focus here is to discuss the activity diagram in context to the use-case model, specifically to visually illustrate a use case’s flow of events. Make sure students understand that activity diagrams can be used to model other aspects of the system.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655720" y="876240"/>
            <a:ext cx="4232520" cy="3175200"/>
          </a:xfrm>
          <a:prstGeom prst="rect">
            <a:avLst/>
          </a:prstGeom>
          <a:ln w="0">
            <a:noFill/>
          </a:ln>
        </p:spPr>
      </p:sp>
      <p:sp>
        <p:nvSpPr>
          <p:cNvPr id="203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90 minu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For this course, tell students that we are focusing on system use cases, not business use cases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92280" y="1273320"/>
            <a:ext cx="495000" cy="55548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657520" y="874800"/>
            <a:ext cx="4233960" cy="3174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647800" y="4294080"/>
            <a:ext cx="4227840" cy="4214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n activity is similar to a state, but expresses the intent that there is no significant waiting (for events) in an activity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In the UML, a state is represented by a rectangle with rounded corners. We’ve shown the difference between an activity and state in the slide abo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657520" y="874800"/>
            <a:ext cx="4233960" cy="3174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647800" y="4294080"/>
            <a:ext cx="422784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ZapfHumnst BT"/>
            </a:endParaRPr>
          </a:p>
        </p:txBody>
      </p:sp>
      <p:sp>
        <p:nvSpPr>
          <p:cNvPr id="294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657520" y="874800"/>
            <a:ext cx="4233960" cy="3174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2647800" y="4294080"/>
            <a:ext cx="422784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ZapfHumnst BT"/>
            </a:endParaRPr>
          </a:p>
        </p:txBody>
      </p:sp>
      <p:sp>
        <p:nvSpPr>
          <p:cNvPr id="297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657520" y="874800"/>
            <a:ext cx="4233960" cy="31748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2647800" y="4294080"/>
            <a:ext cx="4227840" cy="4214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Each diagram has its own toolbar. On an activity or statechart diagram, the solid line with an arrow represents a state transition. The same arrow can represent something different on another diagram. For example, a solid line with an arrow represents an association relationship on a use-case diagr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You can also have a transition to self. It is similar to a state transition. However, it does not move the focus of control to another activity when an event occur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State transitions can be labeled with events, guard conditions, or actions using the Specification window in Ro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722680" y="838080"/>
            <a:ext cx="4233600" cy="3175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647800" y="4294080"/>
            <a:ext cx="4227840" cy="4214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ZapfHumnst BT"/>
              </a:rPr>
              <a:t>Guard conditions</a:t>
            </a: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 control the transition of a set of alternative transitions that follows after the activity has been complet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You may also use the decision icon to show where the threads merge agai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Decisions and guard conditions allow you to show alternative threads in the workflow of a use cas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Guard conditions are placed on the state transition and can be added through the transition’s Specification window in Ro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657520" y="874800"/>
            <a:ext cx="4233960" cy="317484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657520" y="874800"/>
            <a:ext cx="4233960" cy="3174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2647800" y="4294080"/>
            <a:ext cx="4227840" cy="4214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Each swimlane should represent a responsibility for part of the overall workflow, carried by a part of the organization. A swimlane may eventually be implemented by an organization unit or a set of classes in the business object mode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The relative ordering of swimlanes has no semantic significance. Each activity state is assigned to one swimlane and transitions may cross lan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657520" y="874800"/>
            <a:ext cx="4233960" cy="3174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ZapfHumnst BT"/>
            </a:endParaRPr>
          </a:p>
        </p:txBody>
      </p:sp>
      <p:sp>
        <p:nvSpPr>
          <p:cNvPr id="311" name=""/>
          <p:cNvSpPr/>
          <p:nvPr/>
        </p:nvSpPr>
        <p:spPr>
          <a:xfrm>
            <a:off x="584280" y="1209600"/>
            <a:ext cx="1778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674800" y="874800"/>
            <a:ext cx="4233960" cy="3174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Many items can be suppliers in relationship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Classes, actors, and use cases can be suppliers for association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n operation can be a supplier for a messag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ctivities, synchronizations, and states can be suppliers for state transitio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This report can be used with all Rose diagrams, including use-case and activity diagram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655720" y="874800"/>
            <a:ext cx="4232520" cy="317484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4280" y="1209600"/>
            <a:ext cx="1778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 marL="171360" indent="-171360">
              <a:lnSpc>
                <a:spcPct val="87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nswers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Slides 4-15 and 4-1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Slide 4-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Slides 4-20 through 4-2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ZapfHumnst B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655720" y="876240"/>
            <a:ext cx="4232520" cy="317520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4280" y="1209600"/>
            <a:ext cx="1778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For this lab, you can give students two options depending on time limita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ZapfHumnst BT"/>
              </a:rPr>
              <a:t>Option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Work from the Maintain Personal Planner Use-Case Specification to determine the workflow from the text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ZapfHumnst BT"/>
              </a:rPr>
              <a:t>Option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Work from the Activity Diagram Worksheet and simply model the existing diagram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In either case, we give high-level instructions. Guide students when necessar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655720" y="874800"/>
            <a:ext cx="4232520" cy="317484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ZapfHumnst B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655720" y="874800"/>
            <a:ext cx="4232520" cy="3174840"/>
          </a:xfrm>
          <a:prstGeom prst="rect">
            <a:avLst/>
          </a:prstGeom>
          <a:ln w="0">
            <a:noFill/>
          </a:ln>
        </p:spPr>
      </p:sp>
      <p:sp>
        <p:nvSpPr>
          <p:cNvPr id="332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ZapfHumnst BT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655720" y="874800"/>
            <a:ext cx="4232520" cy="3174840"/>
          </a:xfrm>
          <a:prstGeom prst="rect">
            <a:avLst/>
          </a:prstGeom>
          <a:ln w="0">
            <a:noFill/>
          </a:ln>
        </p:spPr>
      </p:sp>
      <p:sp>
        <p:nvSpPr>
          <p:cNvPr id="337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ZapfHumnst B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655720" y="874800"/>
            <a:ext cx="4232520" cy="3174840"/>
          </a:xfrm>
          <a:prstGeom prst="rect">
            <a:avLst/>
          </a:prstGeom>
          <a:ln w="0">
            <a:noFill/>
          </a:ln>
        </p:spPr>
      </p:sp>
      <p:sp>
        <p:nvSpPr>
          <p:cNvPr id="342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ZapfHumnst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655720" y="874800"/>
            <a:ext cx="4232520" cy="317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The use-case model should be the basis for all system design activities. If it isn’t in the use-case model, it should NOT be in your system. In fact, the system being built should “trace” back to the use-case mod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600" y="1143000"/>
            <a:ext cx="194940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655720" y="874800"/>
            <a:ext cx="4232520" cy="3174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747880" y="4367160"/>
            <a:ext cx="428616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Use-Case Mo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Is created in the Use-Case View of Ros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Is a model of the system’s intended functions and its environm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Serves as a contract between customer and develop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Is essential to analysis and design and test activit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Can include use-case diagrams, use-case flow of events, supplemental information, and activity diagram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Is created using </a:t>
            </a:r>
            <a:r>
              <a:rPr b="1" lang="en-US" sz="1000" spc="-1" strike="noStrike">
                <a:solidFill>
                  <a:srgbClr val="000000"/>
                </a:solidFill>
                <a:latin typeface="ZapfHumnst BT"/>
              </a:rPr>
              <a:t>artifacts</a:t>
            </a: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 developed by the software architect and system analysts in concert with the customer. An artifact is information produced, modified, or used by a process. It defines an area of responsibility and is subject to version control. An artifact can be a model, a model element, or document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If applicable to your class, you can introduce the Rational Unified Process (RUP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550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nalysis and Design Workflow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To maintain traceability,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the use-case model is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continually updated 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during this workflow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1916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655720" y="876240"/>
            <a:ext cx="4232520" cy="3175200"/>
          </a:xfrm>
          <a:prstGeom prst="rect">
            <a:avLst/>
          </a:prstGeom>
          <a:ln w="0">
            <a:noFill/>
          </a:ln>
        </p:spPr>
      </p:sp>
      <p:sp>
        <p:nvSpPr>
          <p:cNvPr id="216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286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Use-Case Mo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Provides a paper trail of what the system will 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Provides a paper trail of how the system will wor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voids developing unnecessary system functional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Provides a foundation for “next steps” and future iteratio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ll of the abo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nswers:</a:t>
            </a:r>
            <a:r>
              <a:rPr b="1" lang="en-US" sz="1000" spc="-1" strike="noStrike">
                <a:solidFill>
                  <a:srgbClr val="ffffff"/>
                </a:solidFill>
                <a:latin typeface="ZapfHumnst BT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a., c., and 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657520" y="874800"/>
            <a:ext cx="4233960" cy="3174840"/>
          </a:xfrm>
          <a:prstGeom prst="rect">
            <a:avLst/>
          </a:prstGeom>
          <a:ln w="0">
            <a:noFill/>
          </a:ln>
        </p:spPr>
      </p:sp>
      <p:sp>
        <p:nvSpPr>
          <p:cNvPr id="220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We will now look at each piece of the use-case model, beginning with the use-case diagram and its ele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655720" y="876240"/>
            <a:ext cx="4232520" cy="3175200"/>
          </a:xfrm>
          <a:prstGeom prst="rect">
            <a:avLst/>
          </a:prstGeom>
          <a:ln w="0">
            <a:noFill/>
          </a:ln>
        </p:spPr>
      </p:sp>
      <p:sp>
        <p:nvSpPr>
          <p:cNvPr id="223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Use-Case Diagr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Is a visual representation of what the customer wants the system to 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Represents a major piece of functionality that is complete from beginning to e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Shows a sequence of actions a system performs that yields an observable result and is of value to a particular a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Is typically created from numerous sources that may include the follow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- Glo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- Stakeholders requ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- Vision 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- Use-case modeling guidel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- Business use-case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- Business object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- Supplemental specif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960" rIns="111960" tIns="56160" bIns="56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655720" y="876240"/>
            <a:ext cx="4232520" cy="3175200"/>
          </a:xfrm>
          <a:prstGeom prst="rect">
            <a:avLst/>
          </a:prstGeom>
          <a:ln w="0">
            <a:noFill/>
          </a:ln>
        </p:spPr>
      </p:sp>
      <p:sp>
        <p:nvSpPr>
          <p:cNvPr id="228" name=""/>
          <p:cNvSpPr/>
          <p:nvPr/>
        </p:nvSpPr>
        <p:spPr>
          <a:xfrm>
            <a:off x="579600" y="1143000"/>
            <a:ext cx="18968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65880" bIns="65880" anchor="t">
            <a:noAutofit/>
          </a:bodyPr>
          <a:p>
            <a:pPr>
              <a:lnSpc>
                <a:spcPct val="87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2747520" y="4367160"/>
            <a:ext cx="422748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Use-case diagrams can depic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ll actors and use cases (global view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ll the use cases for a selected a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 single use case and all its relationship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ll the uses cases used in an iter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ZapfHumnst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600" y="1262160"/>
            <a:ext cx="18428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960" rIns="111960" tIns="56160" bIns="56160" anchor="t">
            <a:noAutofit/>
          </a:bodyPr>
          <a:p>
            <a:pPr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In our labs, we use a modified Rational Unified Process framework. In the framework, the Global View of Actors and Use cases use-case diagram is already established under the Use-Case Model packag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1800" y="3686760"/>
            <a:ext cx="849024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1800" y="368676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040" y="368676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2440" y="105228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05228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1800" y="368676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2440" y="368676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68676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92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1800" y="368676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040" y="368676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1800" y="3686760"/>
            <a:ext cx="849024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ottom%20logo" descr=""/>
          <p:cNvPicPr/>
          <p:nvPr/>
        </p:nvPicPr>
        <p:blipFill>
          <a:blip r:embed="rId2"/>
          <a:stretch/>
        </p:blipFill>
        <p:spPr>
          <a:xfrm>
            <a:off x="6477120" y="6342120"/>
            <a:ext cx="2590560" cy="515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-228600">
              <a:lnSpc>
                <a:spcPct val="80000"/>
              </a:lnSpc>
              <a:spcBef>
                <a:spcPts val="11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025640" indent="-228600">
              <a:lnSpc>
                <a:spcPct val="80000"/>
              </a:lnSpc>
              <a:spcBef>
                <a:spcPts val="1199"/>
              </a:spcBef>
              <a:buClr>
                <a:srgbClr val="73e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368360" indent="-22860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1711440" indent="-22860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1711440" indent="-22860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1711440" indent="-22860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400800"/>
            <a:ext cx="466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e1ff"/>
                </a:solidFill>
                <a:latin typeface="Arial"/>
              </a:rPr>
              <a:t>Fundamentals of Rational Ros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e1ff"/>
                </a:solidFill>
                <a:latin typeface="Arial"/>
              </a:rPr>
              <a:t>Copyright © 2000, 2002 Rational Software,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3849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13FF-684D-4A20-8072-59DEEAC48533}" type="slidenum">
              <a:rPr b="0" lang="en-US" sz="800" spc="-1" strike="noStrike">
                <a:solidFill>
                  <a:srgbClr val="73e1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5943600"/>
            <a:ext cx="1371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73e1ff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05720"/>
            <a:ext cx="6781680" cy="0"/>
          </a:xfrm>
          <a:prstGeom prst="line">
            <a:avLst/>
          </a:prstGeom>
          <a:ln w="9360">
            <a:solidFill>
              <a:srgbClr val="007e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98400"/>
            <a:ext cx="9144000" cy="0"/>
          </a:xfrm>
          <a:prstGeom prst="line">
            <a:avLst/>
          </a:prstGeom>
          <a:ln w="9360">
            <a:solidFill>
              <a:srgbClr val="73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50000">
              <a:srgbClr val="00516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ndant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2971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4191120"/>
            <a:ext cx="78487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Fundamentals of Rational Rose</a:t>
            </a:r>
            <a:br>
              <a:rPr sz="3600"/>
            </a:b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odule 4: The Use-Cas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use case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is a sequence of actions 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performed by the system that yields a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measurable value for an actor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 the UML, a use case is represented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by an oval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         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8999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Use C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3809880"/>
            <a:ext cx="2362320" cy="914400"/>
          </a:xfrm>
          <a:prstGeom prst="ellipse">
            <a:avLst/>
          </a:prstGeom>
          <a:solidFill>
            <a:srgbClr val="ff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78360" y="4889520"/>
            <a:ext cx="127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se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ctor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is someone or something outside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the system that interacts with the system.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 the UML, an actor is represented by a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“stickman.”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         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8999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Ac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038480" y="3581280"/>
            <a:ext cx="1219320" cy="1624680"/>
            <a:chOff x="4038480" y="3581280"/>
            <a:chExt cx="1219320" cy="1624680"/>
          </a:xfrm>
        </p:grpSpPr>
        <p:sp>
          <p:nvSpPr>
            <p:cNvPr id="90" name=""/>
            <p:cNvSpPr/>
            <p:nvPr/>
          </p:nvSpPr>
          <p:spPr>
            <a:xfrm>
              <a:off x="4367160" y="3581280"/>
              <a:ext cx="593640" cy="43524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64160" y="3992400"/>
              <a:ext cx="3240" cy="3621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02280" y="4087800"/>
              <a:ext cx="892080" cy="14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38480" y="4354560"/>
              <a:ext cx="1219320" cy="45720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19" y="0"/>
                  </a:lnTo>
                  <a:lnTo>
                    <a:pt x="37" y="19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48440" y="4900680"/>
              <a:ext cx="66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cto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relationship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illustrates a semantic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connection among model element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 the UML, an association relationship is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represented by a solid line with or without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an arrow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         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76320"/>
            <a:ext cx="8999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Relationship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14600" y="3962520"/>
            <a:ext cx="4038480" cy="1403640"/>
            <a:chOff x="2514600" y="3962520"/>
            <a:chExt cx="4038480" cy="1403640"/>
          </a:xfrm>
        </p:grpSpPr>
        <p:sp>
          <p:nvSpPr>
            <p:cNvPr id="99" name=""/>
            <p:cNvSpPr/>
            <p:nvPr/>
          </p:nvSpPr>
          <p:spPr>
            <a:xfrm>
              <a:off x="2514600" y="3962520"/>
              <a:ext cx="403848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107640" tIns="-53640" bIns="-53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14600" y="4724280"/>
              <a:ext cx="403848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107640" tIns="-53640" bIns="-53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67960" y="4952880"/>
              <a:ext cx="339876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ssociation Relationship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Review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609480" indent="-60948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y create a use-case model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at are possible sources for developing a use-case diagram?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at are the elements of a use-case diagram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efine a use cas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4" name="j0215317" descr=""/>
          <p:cNvPicPr/>
          <p:nvPr/>
        </p:nvPicPr>
        <p:blipFill>
          <a:blip r:embed="rId1"/>
          <a:stretch/>
        </p:blipFill>
        <p:spPr>
          <a:xfrm>
            <a:off x="6556320" y="3124080"/>
            <a:ext cx="23227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Where Are We?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why and what of a use-case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Elements of a use-case diagra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low of events and project artifac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Elements of an activity diagra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2133720"/>
            <a:ext cx="352440" cy="380880"/>
          </a:xfrm>
          <a:prstGeom prst="star5">
            <a:avLst/>
          </a:prstGeom>
          <a:solidFill>
            <a:srgbClr val="96969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640" rIns="107640" tIns="53640" bIns="53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What Is a Flow of Events? 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low of event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is a text description of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the use case and is part of the use-case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specification.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 Rose, you include each use case’s flow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of events in the Use-Case View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flow of events is included under its use-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case package in Rose and can be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accessed directly from Rose once it’s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attached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What Are Artifacts? 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are documents, models, or model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elements used to capture and convey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project information.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 Rose, you will attach only those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artifacts important to maintaining the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use-case model. 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000" y="123840"/>
            <a:ext cx="89996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Lab 4-1: Create a Use-Case Diagram 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Go to your Student Workbook and follow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the instructions to create a use-case 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diagram, including adding use-case flows of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events and an artifact.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7932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638680" y="3733920"/>
          <a:ext cx="350532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733920"/>
                    <a:ext cx="35053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Where Are We?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why and what of a use-case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Elements of a use-case diagra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low of events and project artifac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lements of an activity diagra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048120"/>
            <a:ext cx="352440" cy="380880"/>
          </a:xfrm>
          <a:prstGeom prst="star5">
            <a:avLst/>
          </a:prstGeom>
          <a:solidFill>
            <a:srgbClr val="96969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640" rIns="107640" tIns="53640" bIns="53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What Is an Activity Diagram?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1800" y="1052640"/>
            <a:ext cx="8490240" cy="2224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0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n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activity diagram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in the use-case model can be used to capture the activities in a use case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0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t is essentially a flow chart, showing flow of control from activity to activity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819520"/>
            <a:ext cx="3886200" cy="345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 Narrow"/>
              </a:rPr>
              <a:t>Flow of Ev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his use case starts when the Registrar requests that the system close registr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1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he system checks to see if registration is in progress.  If it is, then a message is displayed to the Registrar and the use case terminates.  The Close Registration processing cannot be performed if registration is in progres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. For each course offering, the system checks if a professor has signed up to teach the course offering and at least three students have registered.  If so, the system commits the course offering for each schedule that contains i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267080"/>
            <a:ext cx="914400" cy="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7640" rIns="107640" tIns="-53640" bIns="-53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181480" y="3657600"/>
            <a:ext cx="3567240" cy="1535040"/>
            <a:chOff x="5181480" y="3657600"/>
            <a:chExt cx="3567240" cy="1535040"/>
          </a:xfrm>
        </p:grpSpPr>
        <p:sp>
          <p:nvSpPr>
            <p:cNvPr id="124" name=""/>
            <p:cNvSpPr/>
            <p:nvPr/>
          </p:nvSpPr>
          <p:spPr>
            <a:xfrm>
              <a:off x="5715000" y="3809880"/>
              <a:ext cx="244440" cy="279360"/>
            </a:xfrm>
            <a:prstGeom prst="ellipse">
              <a:avLst/>
            </a:prstGeom>
            <a:solidFill>
              <a:srgbClr val="ff0033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45320" y="4111560"/>
              <a:ext cx="68040" cy="574920"/>
            </a:xfrm>
            <a:custGeom>
              <a:avLst/>
              <a:gdLst/>
              <a:ahLst/>
              <a:rect l="l" t="t" r="r" b="b"/>
              <a:pathLst>
                <a:path w="5" h="37">
                  <a:moveTo>
                    <a:pt x="0" y="0"/>
                  </a:moveTo>
                  <a:lnTo>
                    <a:pt x="0" y="37"/>
                  </a:lnTo>
                  <a:lnTo>
                    <a:pt x="5" y="27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5791320" y="4530240"/>
              <a:ext cx="54000" cy="1558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27680" y="4824360"/>
              <a:ext cx="571680" cy="311040"/>
            </a:xfrm>
            <a:custGeom>
              <a:avLst/>
              <a:gdLst/>
              <a:ahLst/>
              <a:rect l="l" t="t" r="r" b="b"/>
              <a:pathLst>
                <a:path w="329" h="157">
                  <a:moveTo>
                    <a:pt x="0" y="86"/>
                  </a:moveTo>
                  <a:lnTo>
                    <a:pt x="172" y="0"/>
                  </a:lnTo>
                  <a:lnTo>
                    <a:pt x="329" y="86"/>
                  </a:lnTo>
                  <a:lnTo>
                    <a:pt x="172" y="157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43640" y="4917960"/>
              <a:ext cx="284040" cy="763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4"/>
                  </a:moveTo>
                  <a:lnTo>
                    <a:pt x="21" y="5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593040" y="4994280"/>
              <a:ext cx="134640" cy="633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24560" y="4979880"/>
              <a:ext cx="177840" cy="77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1"/>
                  </a:moveTo>
                  <a:lnTo>
                    <a:pt x="13" y="0"/>
                  </a:lnTo>
                  <a:lnTo>
                    <a:pt x="3" y="5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7367760" y="4917960"/>
              <a:ext cx="134640" cy="61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26120" y="3770280"/>
              <a:ext cx="476280" cy="105408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68"/>
                  </a:moveTo>
                  <a:lnTo>
                    <a:pt x="0" y="4"/>
                  </a:lnTo>
                  <a:lnTo>
                    <a:pt x="35" y="4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367760" y="3833640"/>
              <a:ext cx="134640" cy="781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15360" y="3657600"/>
              <a:ext cx="1233360" cy="393840"/>
            </a:xfrm>
            <a:custGeom>
              <a:avLst/>
              <a:gdLst/>
              <a:ahLst/>
              <a:rect l="l" t="t" r="r" b="b"/>
              <a:pathLst>
                <a:path w="711" h="199">
                  <a:moveTo>
                    <a:pt x="85" y="0"/>
                  </a:moveTo>
                  <a:lnTo>
                    <a:pt x="50" y="21"/>
                  </a:lnTo>
                  <a:lnTo>
                    <a:pt x="21" y="50"/>
                  </a:lnTo>
                  <a:lnTo>
                    <a:pt x="7" y="71"/>
                  </a:lnTo>
                  <a:lnTo>
                    <a:pt x="0" y="99"/>
                  </a:lnTo>
                  <a:lnTo>
                    <a:pt x="7" y="128"/>
                  </a:lnTo>
                  <a:lnTo>
                    <a:pt x="21" y="156"/>
                  </a:lnTo>
                  <a:lnTo>
                    <a:pt x="50" y="177"/>
                  </a:lnTo>
                  <a:lnTo>
                    <a:pt x="85" y="199"/>
                  </a:lnTo>
                  <a:lnTo>
                    <a:pt x="633" y="199"/>
                  </a:lnTo>
                  <a:lnTo>
                    <a:pt x="668" y="177"/>
                  </a:lnTo>
                  <a:lnTo>
                    <a:pt x="697" y="156"/>
                  </a:lnTo>
                  <a:lnTo>
                    <a:pt x="711" y="128"/>
                  </a:lnTo>
                  <a:lnTo>
                    <a:pt x="711" y="99"/>
                  </a:lnTo>
                  <a:lnTo>
                    <a:pt x="711" y="71"/>
                  </a:lnTo>
                  <a:lnTo>
                    <a:pt x="697" y="50"/>
                  </a:lnTo>
                  <a:lnTo>
                    <a:pt x="668" y="21"/>
                  </a:lnTo>
                  <a:lnTo>
                    <a:pt x="633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15360" y="4799160"/>
              <a:ext cx="1233360" cy="393480"/>
            </a:xfrm>
            <a:custGeom>
              <a:avLst/>
              <a:gdLst/>
              <a:ahLst/>
              <a:rect l="l" t="t" r="r" b="b"/>
              <a:pathLst>
                <a:path w="711" h="199">
                  <a:moveTo>
                    <a:pt x="85" y="0"/>
                  </a:moveTo>
                  <a:lnTo>
                    <a:pt x="50" y="21"/>
                  </a:lnTo>
                  <a:lnTo>
                    <a:pt x="21" y="50"/>
                  </a:lnTo>
                  <a:lnTo>
                    <a:pt x="7" y="71"/>
                  </a:lnTo>
                  <a:lnTo>
                    <a:pt x="0" y="99"/>
                  </a:lnTo>
                  <a:lnTo>
                    <a:pt x="7" y="128"/>
                  </a:lnTo>
                  <a:lnTo>
                    <a:pt x="21" y="156"/>
                  </a:lnTo>
                  <a:lnTo>
                    <a:pt x="50" y="177"/>
                  </a:lnTo>
                  <a:lnTo>
                    <a:pt x="85" y="199"/>
                  </a:lnTo>
                  <a:lnTo>
                    <a:pt x="633" y="199"/>
                  </a:lnTo>
                  <a:lnTo>
                    <a:pt x="668" y="177"/>
                  </a:lnTo>
                  <a:lnTo>
                    <a:pt x="697" y="156"/>
                  </a:lnTo>
                  <a:lnTo>
                    <a:pt x="711" y="128"/>
                  </a:lnTo>
                  <a:lnTo>
                    <a:pt x="711" y="99"/>
                  </a:lnTo>
                  <a:lnTo>
                    <a:pt x="711" y="71"/>
                  </a:lnTo>
                  <a:lnTo>
                    <a:pt x="697" y="50"/>
                  </a:lnTo>
                  <a:lnTo>
                    <a:pt x="668" y="21"/>
                  </a:lnTo>
                  <a:lnTo>
                    <a:pt x="633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81480" y="4799160"/>
              <a:ext cx="1233720" cy="393480"/>
            </a:xfrm>
            <a:custGeom>
              <a:avLst/>
              <a:gdLst/>
              <a:ahLst/>
              <a:rect l="l" t="t" r="r" b="b"/>
              <a:pathLst>
                <a:path w="711" h="199">
                  <a:moveTo>
                    <a:pt x="85" y="0"/>
                  </a:moveTo>
                  <a:lnTo>
                    <a:pt x="50" y="21"/>
                  </a:lnTo>
                  <a:lnTo>
                    <a:pt x="21" y="50"/>
                  </a:lnTo>
                  <a:lnTo>
                    <a:pt x="7" y="71"/>
                  </a:lnTo>
                  <a:lnTo>
                    <a:pt x="0" y="99"/>
                  </a:lnTo>
                  <a:lnTo>
                    <a:pt x="7" y="128"/>
                  </a:lnTo>
                  <a:lnTo>
                    <a:pt x="21" y="156"/>
                  </a:lnTo>
                  <a:lnTo>
                    <a:pt x="50" y="177"/>
                  </a:lnTo>
                  <a:lnTo>
                    <a:pt x="85" y="199"/>
                  </a:lnTo>
                  <a:lnTo>
                    <a:pt x="633" y="199"/>
                  </a:lnTo>
                  <a:lnTo>
                    <a:pt x="668" y="177"/>
                  </a:lnTo>
                  <a:lnTo>
                    <a:pt x="697" y="156"/>
                  </a:lnTo>
                  <a:lnTo>
                    <a:pt x="711" y="128"/>
                  </a:lnTo>
                  <a:lnTo>
                    <a:pt x="711" y="99"/>
                  </a:lnTo>
                  <a:lnTo>
                    <a:pt x="711" y="71"/>
                  </a:lnTo>
                  <a:lnTo>
                    <a:pt x="697" y="50"/>
                  </a:lnTo>
                  <a:lnTo>
                    <a:pt x="668" y="21"/>
                  </a:lnTo>
                  <a:lnTo>
                    <a:pt x="633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Module Objectives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fter completing this module, you’ll be able  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t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Describe a use-case model, its components, and its importance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Explain what is used to create use-case diagrams in Ros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se the Rose tool to create a use-case diagram to clearly illustrate what the system will d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se the Rose tool to create an activity diagram to visually illustrate a use case’s flow of event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23004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Activity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1800" y="1052640"/>
            <a:ext cx="8490240" cy="2224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ctivity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represents the performance of a task within the workflow.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 the UML, an activity is represented by a lozenge (horizontal top and bottom with convex sides).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82720" y="3429000"/>
            <a:ext cx="6592680" cy="2590920"/>
            <a:chOff x="882720" y="3429000"/>
            <a:chExt cx="6592680" cy="2590920"/>
          </a:xfrm>
        </p:grpSpPr>
        <p:sp>
          <p:nvSpPr>
            <p:cNvPr id="140" name=""/>
            <p:cNvSpPr/>
            <p:nvPr/>
          </p:nvSpPr>
          <p:spPr>
            <a:xfrm>
              <a:off x="882720" y="3960720"/>
              <a:ext cx="1041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tiv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2666880" y="3429000"/>
              <a:ext cx="21258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057400" y="4191120"/>
              <a:ext cx="838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107640" tIns="-53640" bIns="-53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19920" y="3962520"/>
              <a:ext cx="1455480" cy="533160"/>
            </a:xfrm>
            <a:prstGeom prst="roundRect">
              <a:avLst>
                <a:gd name="adj" fmla="val 9028"/>
              </a:avLst>
            </a:pr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88200" y="4494240"/>
              <a:ext cx="77436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Start State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1800" y="1052640"/>
            <a:ext cx="8490240" cy="2224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7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tart state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explicitly shows the beginning of a workflow on an activity diagram.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re is only one start stat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 the UML, a start state is represented by a solid circl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308240" y="3124080"/>
            <a:ext cx="4863960" cy="2971800"/>
            <a:chOff x="1308240" y="3124080"/>
            <a:chExt cx="4863960" cy="2971800"/>
          </a:xfrm>
        </p:grpSpPr>
        <p:sp>
          <p:nvSpPr>
            <p:cNvPr id="148" name=""/>
            <p:cNvSpPr/>
            <p:nvPr/>
          </p:nvSpPr>
          <p:spPr>
            <a:xfrm>
              <a:off x="1308240" y="3274920"/>
              <a:ext cx="13582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art St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3733920" y="3124080"/>
              <a:ext cx="24382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819520" y="3505320"/>
              <a:ext cx="18288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107640" tIns="-53640" bIns="-53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End State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1800" y="1052640"/>
            <a:ext cx="8490240" cy="2224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89000"/>
          </a:bodyPr>
          <a:p>
            <a:pPr marL="302400" indent="-302400">
              <a:lnSpc>
                <a:spcPct val="7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end state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represents a final or terminal state on an activity diagram.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02400" indent="-302400">
              <a:lnSpc>
                <a:spcPct val="7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re can be zero or more end states on an activity diagram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02400" indent="-302400">
              <a:lnSpc>
                <a:spcPct val="7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 the UML, an end state is represented by a bull’s ey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024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024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25040" y="3276720"/>
            <a:ext cx="4318560" cy="2743200"/>
            <a:chOff x="1625040" y="3276720"/>
            <a:chExt cx="4318560" cy="2743200"/>
          </a:xfrm>
        </p:grpSpPr>
        <p:sp>
          <p:nvSpPr>
            <p:cNvPr id="154" name=""/>
            <p:cNvSpPr/>
            <p:nvPr/>
          </p:nvSpPr>
          <p:spPr>
            <a:xfrm>
              <a:off x="1625040" y="5484960"/>
              <a:ext cx="127116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d St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3505320" y="3276720"/>
              <a:ext cx="24382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048120" y="5715000"/>
              <a:ext cx="1295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107640" tIns="-53640" bIns="-53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State Transitions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1800" y="1052640"/>
            <a:ext cx="8490240" cy="2224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tate transition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shows what activity follows after another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 the UML, a state transition is represented by a solid line with an arrow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51480" y="3200400"/>
            <a:ext cx="5407920" cy="2819520"/>
            <a:chOff x="951480" y="3200400"/>
            <a:chExt cx="5407920" cy="2819520"/>
          </a:xfrm>
        </p:grpSpPr>
        <p:sp>
          <p:nvSpPr>
            <p:cNvPr id="160" name=""/>
            <p:cNvSpPr/>
            <p:nvPr/>
          </p:nvSpPr>
          <p:spPr>
            <a:xfrm>
              <a:off x="951480" y="4343400"/>
              <a:ext cx="1945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ate Transi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4046400" y="3200400"/>
              <a:ext cx="23130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971800" y="4572000"/>
              <a:ext cx="1752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107640" tIns="-53640" bIns="-53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Decisions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1800" y="1052640"/>
            <a:ext cx="8490240" cy="2224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decision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is a point in an activity diagram where guard conditions are used to indicate different possible transition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 the UML, a decision is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presented by a diamond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352320" y="2057400"/>
            <a:ext cx="5410800" cy="4038480"/>
            <a:chOff x="3352320" y="2057400"/>
            <a:chExt cx="5410800" cy="4038480"/>
          </a:xfrm>
        </p:grpSpPr>
        <p:sp>
          <p:nvSpPr>
            <p:cNvPr id="166" name=""/>
            <p:cNvSpPr/>
            <p:nvPr/>
          </p:nvSpPr>
          <p:spPr>
            <a:xfrm>
              <a:off x="3352320" y="4038480"/>
              <a:ext cx="11692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cis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6095880" y="2057400"/>
              <a:ext cx="266724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648320" y="426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107640" tIns="-53640" bIns="-53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Synchronization Bars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61800" y="1052640"/>
            <a:ext cx="8490240" cy="26812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ynchronization bar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allows you to show concurrent threads in a workflow of a use cas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 the UML, a synchronization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bar is represented by a thick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horizontal or vertical lin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56680" y="2057400"/>
            <a:ext cx="6706440" cy="4114800"/>
            <a:chOff x="2056680" y="2057400"/>
            <a:chExt cx="6706440" cy="4114800"/>
          </a:xfrm>
        </p:grpSpPr>
        <p:sp>
          <p:nvSpPr>
            <p:cNvPr id="172" name=""/>
            <p:cNvSpPr/>
            <p:nvPr/>
          </p:nvSpPr>
          <p:spPr>
            <a:xfrm>
              <a:off x="2056680" y="5130720"/>
              <a:ext cx="2440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ynchronization 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6324480" y="2057400"/>
              <a:ext cx="243864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648320" y="5334120"/>
              <a:ext cx="1981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107640" tIns="-53640" bIns="-53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Swimlanes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1800" y="1052640"/>
            <a:ext cx="8490240" cy="2224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wimlane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is used to partition an activity diagram to help us better understand who or what is initiating the activity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2040" y="2666880"/>
            <a:ext cx="7976160" cy="3048120"/>
            <a:chOff x="482040" y="2666880"/>
            <a:chExt cx="7976160" cy="3048120"/>
          </a:xfrm>
        </p:grpSpPr>
        <p:sp>
          <p:nvSpPr>
            <p:cNvPr id="178" name=""/>
            <p:cNvSpPr/>
            <p:nvPr/>
          </p:nvSpPr>
          <p:spPr>
            <a:xfrm>
              <a:off x="482040" y="4265640"/>
              <a:ext cx="127116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wimla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2143080" y="2666880"/>
              <a:ext cx="6315120" cy="3048120"/>
            </a:xfrm>
            <a:prstGeom prst="rect">
              <a:avLst/>
            </a:prstGeom>
            <a:ln w="38160">
              <a:solidFill>
                <a:srgbClr val="00ccff"/>
              </a:solidFill>
              <a:miter/>
            </a:ln>
          </p:spPr>
        </p:pic>
        <p:sp>
          <p:nvSpPr>
            <p:cNvPr id="180" name=""/>
            <p:cNvSpPr/>
            <p:nvPr/>
          </p:nvSpPr>
          <p:spPr>
            <a:xfrm>
              <a:off x="1981080" y="4495680"/>
              <a:ext cx="15242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107640" tIns="-53640" bIns="-53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Where Are We?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why and what of a use-case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Elements of a use-case diagra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low of events and project artifac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Elements of an activity diagra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3200400"/>
            <a:ext cx="352440" cy="380880"/>
          </a:xfrm>
          <a:prstGeom prst="star5">
            <a:avLst/>
          </a:prstGeom>
          <a:solidFill>
            <a:srgbClr val="96969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640" rIns="107640" tIns="53640" bIns="53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Show Usage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how Usage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report lists all the locations where the selected item is used as a supplier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 a relationship.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343400" cy="419112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Review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609480" indent="-60948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at is the difference between a flow of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vents and an activity diagram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at artifacts might be important to a use-case model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ame three elements of an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ctivity diagram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9" name="j0215317" descr=""/>
          <p:cNvPicPr/>
          <p:nvPr/>
        </p:nvPicPr>
        <p:blipFill>
          <a:blip r:embed="rId1"/>
          <a:stretch/>
        </p:blipFill>
        <p:spPr>
          <a:xfrm>
            <a:off x="6556320" y="3124080"/>
            <a:ext cx="23227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Where Are We?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why and what of a use-case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Elements of a use-case diagra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low of events and project artifac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Elements of an activity diagra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1066680"/>
            <a:ext cx="352440" cy="381240"/>
          </a:xfrm>
          <a:prstGeom prst="star5">
            <a:avLst/>
          </a:prstGeom>
          <a:solidFill>
            <a:srgbClr val="96969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640" rIns="107640" tIns="53640" bIns="53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32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Lab 4-2: Create an Activity Diagram 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Go to your Student Workbook and follow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the instructions to create an activity diagram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for a use cas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7932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638680" y="3733920"/>
          <a:ext cx="350532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733920"/>
                    <a:ext cx="35053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Module Summary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use-case model is the visual contract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between customer and developer and is a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representation of the system’s intended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functions and its environment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t is created in the Use-Case View and can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includ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se-case diagram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se-case flow of event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ject artifact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ctivity diagram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Module Summary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9000"/>
          </a:bodyPr>
          <a:p>
            <a:pPr marL="227520" indent="-22752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use-case diagram is an illustration that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shows relationships among use cases and  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actors and among related use cas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27520" indent="-22752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use case represents a major piece of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functionality that is complete from beginning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to end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27520" indent="-22752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n actor is someone or something outside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the system that interacts with the system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275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Module Summary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n association relationship is the most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general relationship and indicates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communication only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flow of events is a text description of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the use cas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n activity diagram in the use-case model is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the visual representation of the flow of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event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Next Steps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e will now move from the concerns of the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user to that of the designer.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How does the designer take the use cases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and represent or realize them in the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system?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We will begin the next module by setting up the structure for use-case realizations, which include interaction and class diagram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23004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Why Create a Use-Case Model?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use-case model allows the customer and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system developer to communicate WHAT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the system should do, in a language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understandable to the customer.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sider the use-case model as the visual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contract between customer and developer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         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3" name=""/>
          <p:cNvSpPr/>
          <p:nvPr/>
        </p:nvSpPr>
        <p:spPr>
          <a:xfrm>
            <a:off x="6840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What Is a Use-Case Mode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use-case model is representation of the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system’s intended functions and its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environment.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30040" indent="-230040">
              <a:lnSpc>
                <a:spcPct val="85000"/>
              </a:lnSpc>
              <a:spcBef>
                <a:spcPts val="10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t is created in the Use-Case View and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can include the follow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se-case diagram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se-case flow of event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upplemental inform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9320" indent="-220680">
              <a:lnSpc>
                <a:spcPct val="85000"/>
              </a:lnSpc>
              <a:spcBef>
                <a:spcPts val="876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ctivity diagram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Quiz: The Use-Case Model 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at are some of the important implications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of creating the use-case model? Select all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that apply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7" name="j0215704" descr=""/>
          <p:cNvPicPr/>
          <p:nvPr/>
        </p:nvPicPr>
        <p:blipFill>
          <a:blip r:embed="rId1"/>
          <a:stretch/>
        </p:blipFill>
        <p:spPr>
          <a:xfrm>
            <a:off x="6323040" y="3124080"/>
            <a:ext cx="2668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Where Are We?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why and what of a use-case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lements of a use-case diagra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low of events and project artifac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Elements of an activity diagra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600200"/>
            <a:ext cx="352440" cy="380880"/>
          </a:xfrm>
          <a:prstGeom prst="star5">
            <a:avLst/>
          </a:prstGeom>
          <a:solidFill>
            <a:srgbClr val="969696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640" rIns="107640" tIns="53640" bIns="53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What Is a Use-Case Diagram? 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use-case diagram is an illustration that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shows the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relationship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among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use case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ctor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and among related use cas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343400" cy="373392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use-case diagram can be modeled in a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number of ways.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What Is a Use-Case Diagram? 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6" name=""/>
          <p:cNvSpPr/>
          <p:nvPr/>
        </p:nvSpPr>
        <p:spPr>
          <a:xfrm>
            <a:off x="2203200" y="480528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rom List Property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9840" y="6122880"/>
            <a:ext cx="100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rom Maintain Profile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581280" cy="20145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69000" y="2057400"/>
            <a:ext cx="3759120" cy="419112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62120" y="4362480"/>
            <a:ext cx="3581280" cy="191124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2T19:55:58Z</dcterms:created>
  <dc:creator>Denise Leveron</dc:creator>
  <dc:description>Revised Power Point master slide using the "standard" Rational Software logo</dc:description>
  <dc:language>en-US</dc:language>
  <cp:lastModifiedBy>dleveron</cp:lastModifiedBy>
  <cp:lastPrinted>2000-11-28T22:31:45Z</cp:lastPrinted>
  <dcterms:modified xsi:type="dcterms:W3CDTF">2002-01-02T21:20:00Z</dcterms:modified>
  <cp:revision>146</cp:revision>
  <dc:subject>RU_SlideStandard</dc:subject>
  <dc:title>PowerPoint Presentation</dc:title>
</cp:coreProperties>
</file>